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F68-608A-47D4-80AC-F5C583BF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F43-885F-4DCA-9DD7-F29CCE6C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6E7-F54B-4DE8-A4CD-FFEF2369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9B3-1CAB-43D6-AEA0-4735DFA6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980-4D83-4973-B82A-1FF40DCE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3C2-E3B2-4A15-8718-C2847D3A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B1F-BC02-400E-B4D7-0809FDF2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1B9-FA76-4D1C-8583-50E4F415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D42-6573-4C96-A8C0-1AEF2C9D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5F2-A4A8-448D-8C3D-ABDBCAD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0D8-CF68-41FF-818B-C46361B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0B2-1AFF-45DE-ADB2-4493660E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87C8-AAD6-4217-BB17-7D8CED73366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4640"/>
            <a:ext cx="2987640" cy="1268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 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84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24280"/>
            <a:ext cx="2916360" cy="19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di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 vanno all’ester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620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333360"/>
            <a:ext cx="2160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i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ro 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7236000" y="691920"/>
            <a:ext cx="288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96360" y="0"/>
            <a:ext cx="1547640" cy="1628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1484280"/>
            <a:ext cx="792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96360" y="2133720"/>
            <a:ext cx="1547640" cy="25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ggire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rre…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524360" y="479736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5445000"/>
            <a:ext cx="1908000" cy="141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immig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rattu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948000" y="6453360"/>
            <a:ext cx="287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6524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435280" y="6597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6021360"/>
            <a:ext cx="1152360" cy="836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5373720"/>
            <a:ext cx="2951280" cy="148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st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ti in mol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, anche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 di una volta,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 anche ogg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429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3645000"/>
            <a:ext cx="2160720" cy="107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eprincip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6165720"/>
            <a:ext cx="1152360" cy="69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fica/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924360" y="4797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084640"/>
            <a:ext cx="115092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48690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8360" y="5157720"/>
            <a:ext cx="100800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4149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3860640"/>
            <a:ext cx="1295640" cy="1224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148428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1700280"/>
            <a:ext cx="7164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1916280"/>
            <a:ext cx="3240000" cy="115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chiama i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do i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rivano stanieri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cercano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6:40Z</dcterms:created>
  <dc:creator>studente</dc:creator>
  <dc:description/>
  <dc:language>en-US</dc:language>
  <cp:lastModifiedBy>studente</cp:lastModifiedBy>
  <dcterms:modified xsi:type="dcterms:W3CDTF">2017-01-30T08:08:21Z</dcterms:modified>
  <cp:revision>2</cp:revision>
  <dc:subject/>
  <dc:title>Diapositiva 1</dc:title>
</cp:coreProperties>
</file>